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9C30-332F-4E24-A249-BF2CA20BA2B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Ograda številke diapozitiva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DE02-75FA-44B8-ABA6-85D9C6B583AA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Ograda številke diapozitiva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E94B-663A-4A61-A7D2-FF0923825792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Ograda številke diapozitiva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C5F7-0C4D-4D19-B570-0626483C4EE0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Ograda številke diapozitiva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5C9E-8F72-4C7F-905B-71CC90069759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A960-AC5D-4DDE-96F9-713F7745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8EC7-3D50-42D5-8DA5-E94D96F5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8B47-39FA-42AA-B3A1-CD63B4E9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84F3-E3A7-4176-B05D-9975E4DC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B7D1-B345-4D33-8D29-93890987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AC90-FE75-466C-9546-423FC518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2EB8-A22B-4C14-B797-AA938F92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2400-19E1-4DBE-8F02-3020B6DB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9116-BC22-4FCC-8DC1-4DA91E72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2E26-4BAA-4EDD-943B-B65DC863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AC95-D964-4D20-9A7C-D3992E92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5BC-EF77-479F-BED2-93445433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A5A7-70DA-41FC-819C-F29EAD649A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38160" y="0"/>
            <a:ext cx="78408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70c0"/>
                </a:solidFill>
                <a:latin typeface="Calibri"/>
                <a:ea typeface="Arial"/>
              </a:rPr>
              <a:t>MAKROREGIONALNE STRATEGIJ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TextBox 1"/>
          <p:cNvSpPr/>
          <p:nvPr/>
        </p:nvSpPr>
        <p:spPr>
          <a:xfrm>
            <a:off x="182520" y="1817640"/>
            <a:ext cx="7169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70c0"/>
                </a:solidFill>
                <a:latin typeface="Calibri"/>
              </a:rPr>
              <a:t>5. Redna seja OzS, </a:t>
            </a: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Čatež, 25. maj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4" descr=""/>
          <p:cNvPicPr/>
          <p:nvPr/>
        </p:nvPicPr>
        <p:blipFill>
          <a:blip r:embed="rId1"/>
          <a:stretch/>
        </p:blipFill>
        <p:spPr>
          <a:xfrm>
            <a:off x="7142040" y="5397480"/>
            <a:ext cx="1832040" cy="141444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"/>
          <p:cNvSpPr/>
          <p:nvPr/>
        </p:nvSpPr>
        <p:spPr>
          <a:xfrm>
            <a:off x="1487520" y="355680"/>
            <a:ext cx="552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70c0"/>
                </a:solidFill>
                <a:latin typeface="Calibri"/>
              </a:rPr>
              <a:t>PREGL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2"/>
          <p:cNvSpPr/>
          <p:nvPr/>
        </p:nvSpPr>
        <p:spPr>
          <a:xfrm>
            <a:off x="601560" y="1333440"/>
            <a:ext cx="793296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Nacionalna koordinacija MZZ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V treh od štiri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  <a:ea typeface="Arial"/>
              </a:rPr>
              <a:t>Strategija za alpsko regij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  <a:ea typeface="Arial"/>
              </a:rPr>
              <a:t>Strategija EU za jadransko-jonsko regij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  <a:ea typeface="Arial"/>
              </a:rPr>
              <a:t>Strategija EU za Podonavsko regij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Nacionalna in mednarodna upr. struktu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4" descr=""/>
          <p:cNvPicPr/>
          <p:nvPr/>
        </p:nvPicPr>
        <p:blipFill>
          <a:blip r:embed="rId1"/>
          <a:stretch/>
        </p:blipFill>
        <p:spPr>
          <a:xfrm>
            <a:off x="7278840" y="5397480"/>
            <a:ext cx="1831680" cy="1414440"/>
          </a:xfrm>
          <a:prstGeom prst="rect">
            <a:avLst/>
          </a:prstGeom>
          <a:ln w="0">
            <a:noFill/>
          </a:ln>
        </p:spPr>
      </p:pic>
      <p:sp>
        <p:nvSpPr>
          <p:cNvPr id="576" name="TextBox 1"/>
          <p:cNvSpPr/>
          <p:nvPr/>
        </p:nvSpPr>
        <p:spPr>
          <a:xfrm>
            <a:off x="1620720" y="287280"/>
            <a:ext cx="552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70c0"/>
                </a:solidFill>
                <a:latin typeface="Calibri"/>
              </a:rPr>
              <a:t>AKTIV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Box 2"/>
          <p:cNvSpPr/>
          <p:nvPr/>
        </p:nvSpPr>
        <p:spPr>
          <a:xfrm>
            <a:off x="601560" y="1333440"/>
            <a:ext cx="71200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Calibri"/>
              </a:rPr>
              <a:t>zagotavljanje sinergij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Calibri"/>
              </a:rPr>
              <a:t>Skupni horizontalni steber za vse 4 MRS -  "mediji in komuniciranje„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Calibri"/>
                <a:ea typeface="Arial"/>
              </a:rPr>
              <a:t>Izdelava stanja na področju komunikacijskih strategij + road map – Konferenca 09.201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4" descr=""/>
          <p:cNvPicPr/>
          <p:nvPr/>
        </p:nvPicPr>
        <p:blipFill>
          <a:blip r:embed="rId1"/>
          <a:stretch/>
        </p:blipFill>
        <p:spPr>
          <a:xfrm>
            <a:off x="7142040" y="5397480"/>
            <a:ext cx="1832040" cy="1414440"/>
          </a:xfrm>
          <a:prstGeom prst="rect">
            <a:avLst/>
          </a:prstGeom>
          <a:ln w="0">
            <a:noFill/>
          </a:ln>
        </p:spPr>
      </p:pic>
      <p:sp>
        <p:nvSpPr>
          <p:cNvPr id="579" name="TextBox 1"/>
          <p:cNvSpPr/>
          <p:nvPr/>
        </p:nvSpPr>
        <p:spPr>
          <a:xfrm>
            <a:off x="1638360" y="236520"/>
            <a:ext cx="643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70c0"/>
                </a:solidFill>
                <a:latin typeface="Calibri"/>
              </a:rPr>
              <a:t>FINANCIRANJE – EKP C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2"/>
          <p:cNvSpPr/>
          <p:nvPr/>
        </p:nvSpPr>
        <p:spPr>
          <a:xfrm>
            <a:off x="754200" y="1959120"/>
            <a:ext cx="654336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Calibri"/>
              </a:rPr>
              <a:t>3x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Calibri"/>
              </a:rPr>
              <a:t>Letno poročilo za 2017 – 22 projektov – 340 M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cp:lastPrinted>2017-06-09T13:25:46Z</cp:lastPrinted>
  <dcterms:modified xsi:type="dcterms:W3CDTF">2018-05-28T06:47:05Z</dcterms:modified>
  <cp:revision>187</cp:revision>
  <dc:subject/>
  <dc:title>PowerPoint Presentation</dc:title>
</cp:coreProperties>
</file>